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BBD-E87E-4E8D-8463-E9678BAD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0F2-4AD8-4830-A933-AF3BBD3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3EF-B7F7-49D6-BC4E-EC8C3B8E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374-A408-4F4A-A7F5-4C2FE875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1E2-4B45-45E1-8D8C-C9B3245D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9FB-851C-4766-BA1B-C45B277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BE0-5ED5-47A2-A985-76E10734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9A6-0A17-47FD-8E47-05D3B651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2E2-822E-4168-AE57-C863765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59D-BD86-494E-9AA1-36696C7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1AE-8CFC-4E18-BB4E-A9122BF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BB1-76B0-4FEE-9380-F5C86F2D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424A-F018-498B-8E4B-755E32088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549360"/>
            <a:ext cx="936360" cy="6308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 rot="5736600">
            <a:off x="5002200" y="622440"/>
            <a:ext cx="417600" cy="1252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 rot="5806200">
            <a:off x="4756320" y="435600"/>
            <a:ext cx="287280" cy="8244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81360"/>
            <a:ext cx="863640" cy="1224000"/>
          </a:xfrm>
          <a:prstGeom prst="flowChartManualOperation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agonalStripe"/>
          <p:cNvSpPr/>
          <p:nvPr/>
        </p:nvSpPr>
        <p:spPr>
          <a:xfrm rot="8137200">
            <a:off x="7315200" y="3141720"/>
            <a:ext cx="1828800" cy="1828800"/>
          </a:xfrm>
          <a:custGeom>
            <a:avLst/>
            <a:gdLst>
              <a:gd name="textAreaLeft" fmla="*/ 0 w 1828800"/>
              <a:gd name="textAreaRight" fmla="*/ 1376640 w 1828800"/>
              <a:gd name="textAreaTop" fmla="*/ 0 h 1828800"/>
              <a:gd name="textAreaBottom" fmla="*/ 1376640 h 1828800"/>
            </a:gdLst>
            <a:ahLst/>
            <a:rect l="textAreaLeft" t="textAreaTop" r="textAreaRight" b="textAreaBottom"/>
            <a:pathLst>
              <a:path w="21600" h="21600">
                <a:moveTo>
                  <a:pt x="10914" y="0"/>
                </a:moveTo>
                <a:lnTo>
                  <a:pt x="0" y="10914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0920" y="3249360"/>
            <a:ext cx="1800000" cy="86364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2"/>
          <p:cNvSpPr/>
          <p:nvPr/>
        </p:nvSpPr>
        <p:spPr>
          <a:xfrm rot="10800000">
            <a:off x="539640" y="980640"/>
            <a:ext cx="1727280" cy="1809720"/>
          </a:xfrm>
          <a:prstGeom prst="pie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81000"/>
            <a:ext cx="547236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bHalfFrame"/>
          <p:cNvSpPr/>
          <p:nvPr/>
        </p:nvSpPr>
        <p:spPr>
          <a:xfrm rot="5400000">
            <a:off x="6588360" y="1411920"/>
            <a:ext cx="2735280" cy="1873080"/>
          </a:xfrm>
          <a:custGeom>
            <a:avLst/>
            <a:gdLst>
              <a:gd name="textAreaLeft" fmla="*/ 0 w 2735280"/>
              <a:gd name="textAreaRight" fmla="*/ 1823760 w 2735280"/>
              <a:gd name="textAreaTop" fmla="*/ 0 h 1873080"/>
              <a:gd name="textAreaBottom" fmla="*/ 62424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 rot="5170200">
            <a:off x="646920" y="5985000"/>
            <a:ext cx="36036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2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5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7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 rot="16200000">
            <a:off x="934920" y="6345000"/>
            <a:ext cx="36036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 rot="5903400">
            <a:off x="8628120" y="5204160"/>
            <a:ext cx="292320" cy="198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 flipH="1" rot="5488200">
            <a:off x="3996360" y="1053360"/>
            <a:ext cx="216000" cy="36000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 flipH="1" rot="21072000">
            <a:off x="2483640" y="1052640"/>
            <a:ext cx="287280" cy="9504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5724360" y="1413000"/>
            <a:ext cx="40032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>
            <a:off x="3059280" y="1052640"/>
            <a:ext cx="431640" cy="10800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5724360" y="1052640"/>
            <a:ext cx="36360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6516720" y="1341360"/>
            <a:ext cx="363600" cy="1414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 rot="5400000">
            <a:off x="8307360" y="5597640"/>
            <a:ext cx="325440" cy="16344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70520" y="2414520"/>
            <a:ext cx="162000" cy="328680"/>
          </a:xfrm>
          <a:custGeom>
            <a:avLst/>
            <a:gdLst/>
            <a:ahLst/>
            <a:rect l="l" t="t" r="r" b="b"/>
            <a:pathLst>
              <a:path w="102" h="207">
                <a:moveTo>
                  <a:pt x="40" y="0"/>
                </a:moveTo>
                <a:cubicBezTo>
                  <a:pt x="31" y="56"/>
                  <a:pt x="0" y="168"/>
                  <a:pt x="51" y="201"/>
                </a:cubicBezTo>
                <a:cubicBezTo>
                  <a:pt x="62" y="199"/>
                  <a:pt x="83" y="207"/>
                  <a:pt x="85" y="196"/>
                </a:cubicBezTo>
                <a:cubicBezTo>
                  <a:pt x="94" y="150"/>
                  <a:pt x="102" y="34"/>
                  <a:pt x="4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7120" y="3062160"/>
            <a:ext cx="149400" cy="328680"/>
          </a:xfrm>
          <a:custGeom>
            <a:avLst/>
            <a:gdLst/>
            <a:ahLst/>
            <a:rect l="l" t="t" r="r" b="b"/>
            <a:pathLst>
              <a:path w="94" h="207">
                <a:moveTo>
                  <a:pt x="28" y="207"/>
                </a:moveTo>
                <a:cubicBezTo>
                  <a:pt x="18" y="178"/>
                  <a:pt x="10" y="147"/>
                  <a:pt x="0" y="118"/>
                </a:cubicBezTo>
                <a:cubicBezTo>
                  <a:pt x="8" y="81"/>
                  <a:pt x="19" y="50"/>
                  <a:pt x="50" y="28"/>
                </a:cubicBezTo>
                <a:cubicBezTo>
                  <a:pt x="52" y="21"/>
                  <a:pt x="52" y="0"/>
                  <a:pt x="56" y="6"/>
                </a:cubicBezTo>
                <a:cubicBezTo>
                  <a:pt x="77" y="35"/>
                  <a:pt x="58" y="112"/>
                  <a:pt x="73" y="151"/>
                </a:cubicBezTo>
                <a:cubicBezTo>
                  <a:pt x="79" y="184"/>
                  <a:pt x="94" y="189"/>
                  <a:pt x="67" y="207"/>
                </a:cubicBezTo>
                <a:cubicBezTo>
                  <a:pt x="13" y="202"/>
                  <a:pt x="2" y="195"/>
                  <a:pt x="28" y="207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8da25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2800" y="3240000"/>
            <a:ext cx="166680" cy="320760"/>
          </a:xfrm>
          <a:custGeom>
            <a:avLst/>
            <a:gdLst/>
            <a:ahLst/>
            <a:rect l="l" t="t" r="r" b="b"/>
            <a:pathLst>
              <a:path w="105" h="202">
                <a:moveTo>
                  <a:pt x="50" y="157"/>
                </a:moveTo>
                <a:cubicBezTo>
                  <a:pt x="23" y="130"/>
                  <a:pt x="39" y="148"/>
                  <a:pt x="11" y="106"/>
                </a:cubicBezTo>
                <a:cubicBezTo>
                  <a:pt x="7" y="101"/>
                  <a:pt x="0" y="90"/>
                  <a:pt x="0" y="90"/>
                </a:cubicBezTo>
                <a:cubicBezTo>
                  <a:pt x="7" y="51"/>
                  <a:pt x="29" y="32"/>
                  <a:pt x="50" y="0"/>
                </a:cubicBezTo>
                <a:cubicBezTo>
                  <a:pt x="64" y="21"/>
                  <a:pt x="67" y="45"/>
                  <a:pt x="84" y="62"/>
                </a:cubicBezTo>
                <a:cubicBezTo>
                  <a:pt x="94" y="104"/>
                  <a:pt x="105" y="144"/>
                  <a:pt x="84" y="190"/>
                </a:cubicBezTo>
                <a:cubicBezTo>
                  <a:pt x="79" y="202"/>
                  <a:pt x="57" y="187"/>
                  <a:pt x="44" y="185"/>
                </a:cubicBezTo>
                <a:cubicBezTo>
                  <a:pt x="29" y="162"/>
                  <a:pt x="27" y="172"/>
                  <a:pt x="50" y="1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46680" y="355140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68800" y="3932280"/>
            <a:ext cx="135000" cy="276120"/>
          </a:xfrm>
          <a:custGeom>
            <a:avLst/>
            <a:gdLst/>
            <a:ahLst/>
            <a:rect l="l" t="t" r="r" b="b"/>
            <a:pathLst>
              <a:path w="85" h="174">
                <a:moveTo>
                  <a:pt x="39" y="174"/>
                </a:moveTo>
                <a:cubicBezTo>
                  <a:pt x="26" y="156"/>
                  <a:pt x="12" y="142"/>
                  <a:pt x="0" y="123"/>
                </a:cubicBezTo>
                <a:cubicBezTo>
                  <a:pt x="2" y="110"/>
                  <a:pt x="1" y="96"/>
                  <a:pt x="6" y="84"/>
                </a:cubicBezTo>
                <a:cubicBezTo>
                  <a:pt x="18" y="54"/>
                  <a:pt x="45" y="31"/>
                  <a:pt x="56" y="0"/>
                </a:cubicBezTo>
                <a:cubicBezTo>
                  <a:pt x="63" y="26"/>
                  <a:pt x="68" y="52"/>
                  <a:pt x="73" y="79"/>
                </a:cubicBezTo>
                <a:cubicBezTo>
                  <a:pt x="67" y="156"/>
                  <a:pt x="85" y="149"/>
                  <a:pt x="39" y="17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1360" y="4183200"/>
            <a:ext cx="122400" cy="357120"/>
          </a:xfrm>
          <a:custGeom>
            <a:avLst/>
            <a:gdLst/>
            <a:ahLst/>
            <a:rect l="l" t="t" r="r" b="b"/>
            <a:pathLst>
              <a:path w="77" h="225">
                <a:moveTo>
                  <a:pt x="27" y="198"/>
                </a:moveTo>
                <a:cubicBezTo>
                  <a:pt x="20" y="175"/>
                  <a:pt x="8" y="159"/>
                  <a:pt x="0" y="137"/>
                </a:cubicBezTo>
                <a:cubicBezTo>
                  <a:pt x="7" y="99"/>
                  <a:pt x="3" y="84"/>
                  <a:pt x="34" y="62"/>
                </a:cubicBezTo>
                <a:cubicBezTo>
                  <a:pt x="54" y="33"/>
                  <a:pt x="47" y="0"/>
                  <a:pt x="61" y="42"/>
                </a:cubicBezTo>
                <a:cubicBezTo>
                  <a:pt x="66" y="116"/>
                  <a:pt x="77" y="157"/>
                  <a:pt x="68" y="225"/>
                </a:cubicBezTo>
                <a:cubicBezTo>
                  <a:pt x="23" y="210"/>
                  <a:pt x="27" y="225"/>
                  <a:pt x="27" y="19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99040" y="4579920"/>
            <a:ext cx="21600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7360" y="5041800"/>
            <a:ext cx="243000" cy="488880"/>
          </a:xfrm>
          <a:custGeom>
            <a:avLst/>
            <a:gdLst/>
            <a:ahLst/>
            <a:rect l="l" t="t" r="r" b="b"/>
            <a:pathLst>
              <a:path w="153" h="308">
                <a:moveTo>
                  <a:pt x="75" y="294"/>
                </a:moveTo>
                <a:cubicBezTo>
                  <a:pt x="31" y="271"/>
                  <a:pt x="16" y="231"/>
                  <a:pt x="0" y="185"/>
                </a:cubicBezTo>
                <a:cubicBezTo>
                  <a:pt x="2" y="178"/>
                  <a:pt x="4" y="171"/>
                  <a:pt x="7" y="165"/>
                </a:cubicBezTo>
                <a:cubicBezTo>
                  <a:pt x="11" y="158"/>
                  <a:pt x="18" y="152"/>
                  <a:pt x="21" y="144"/>
                </a:cubicBezTo>
                <a:cubicBezTo>
                  <a:pt x="36" y="108"/>
                  <a:pt x="24" y="70"/>
                  <a:pt x="48" y="36"/>
                </a:cubicBezTo>
                <a:cubicBezTo>
                  <a:pt x="50" y="27"/>
                  <a:pt x="47" y="13"/>
                  <a:pt x="55" y="9"/>
                </a:cubicBezTo>
                <a:cubicBezTo>
                  <a:pt x="73" y="0"/>
                  <a:pt x="80" y="39"/>
                  <a:pt x="82" y="43"/>
                </a:cubicBezTo>
                <a:cubicBezTo>
                  <a:pt x="104" y="89"/>
                  <a:pt x="126" y="135"/>
                  <a:pt x="136" y="185"/>
                </a:cubicBezTo>
                <a:cubicBezTo>
                  <a:pt x="130" y="270"/>
                  <a:pt x="153" y="308"/>
                  <a:pt x="75" y="294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5000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321800">
            <a:off x="5003280" y="5660640"/>
            <a:ext cx="252720" cy="258840"/>
          </a:xfrm>
          <a:custGeom>
            <a:avLst/>
            <a:gdLst/>
            <a:ahLst/>
            <a:rect l="l" t="t" r="r" b="b"/>
            <a:pathLst>
              <a:path w="159" h="163">
                <a:moveTo>
                  <a:pt x="16" y="163"/>
                </a:moveTo>
                <a:cubicBezTo>
                  <a:pt x="20" y="104"/>
                  <a:pt x="3" y="68"/>
                  <a:pt x="56" y="54"/>
                </a:cubicBezTo>
                <a:cubicBezTo>
                  <a:pt x="84" y="37"/>
                  <a:pt x="113" y="31"/>
                  <a:pt x="144" y="20"/>
                </a:cubicBezTo>
                <a:cubicBezTo>
                  <a:pt x="146" y="13"/>
                  <a:pt x="144" y="0"/>
                  <a:pt x="151" y="0"/>
                </a:cubicBezTo>
                <a:cubicBezTo>
                  <a:pt x="158" y="0"/>
                  <a:pt x="158" y="13"/>
                  <a:pt x="158" y="20"/>
                </a:cubicBezTo>
                <a:cubicBezTo>
                  <a:pt x="158" y="52"/>
                  <a:pt x="159" y="84"/>
                  <a:pt x="151" y="115"/>
                </a:cubicBezTo>
                <a:cubicBezTo>
                  <a:pt x="146" y="134"/>
                  <a:pt x="93" y="133"/>
                  <a:pt x="70" y="136"/>
                </a:cubicBezTo>
                <a:cubicBezTo>
                  <a:pt x="61" y="140"/>
                  <a:pt x="52" y="146"/>
                  <a:pt x="43" y="149"/>
                </a:cubicBezTo>
                <a:cubicBezTo>
                  <a:pt x="9" y="160"/>
                  <a:pt x="0" y="147"/>
                  <a:pt x="16" y="16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6093000"/>
            <a:ext cx="120600" cy="411120"/>
          </a:xfrm>
          <a:custGeom>
            <a:avLst/>
            <a:gdLst/>
            <a:ahLst/>
            <a:rect l="l" t="t" r="r" b="b"/>
            <a:pathLst>
              <a:path w="76" h="259">
                <a:moveTo>
                  <a:pt x="69" y="259"/>
                </a:moveTo>
                <a:cubicBezTo>
                  <a:pt x="11" y="229"/>
                  <a:pt x="0" y="202"/>
                  <a:pt x="42" y="137"/>
                </a:cubicBezTo>
                <a:cubicBezTo>
                  <a:pt x="44" y="94"/>
                  <a:pt x="41" y="50"/>
                  <a:pt x="49" y="8"/>
                </a:cubicBezTo>
                <a:cubicBezTo>
                  <a:pt x="51" y="0"/>
                  <a:pt x="60" y="21"/>
                  <a:pt x="63" y="29"/>
                </a:cubicBezTo>
                <a:cubicBezTo>
                  <a:pt x="68" y="40"/>
                  <a:pt x="76" y="101"/>
                  <a:pt x="76" y="103"/>
                </a:cubicBezTo>
                <a:cubicBezTo>
                  <a:pt x="76" y="155"/>
                  <a:pt x="71" y="207"/>
                  <a:pt x="69" y="259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924360" y="198864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21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3213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separates the liquid from the soli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2819160" y="1157040"/>
            <a:ext cx="252360" cy="512640"/>
          </a:xfrm>
          <a:prstGeom prst="can">
            <a:avLst>
              <a:gd name="adj" fmla="val 25000"/>
            </a:avLst>
          </a:prstGeom>
          <a:solidFill>
            <a:srgbClr val="fe1e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72360" y="3284640"/>
            <a:ext cx="2665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3429000"/>
            <a:ext cx="2195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765000"/>
            <a:ext cx="1008000" cy="612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907920"/>
            <a:ext cx="720720" cy="251964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765000"/>
            <a:ext cx="718920" cy="25210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981000"/>
            <a:ext cx="171360" cy="211320"/>
          </a:xfrm>
          <a:custGeom>
            <a:avLst/>
            <a:gdLst/>
            <a:ahLst/>
            <a:rect l="l" t="t" r="r" b="b"/>
            <a:pathLst>
              <a:path w="108" h="133">
                <a:moveTo>
                  <a:pt x="0" y="10"/>
                </a:moveTo>
                <a:cubicBezTo>
                  <a:pt x="2" y="35"/>
                  <a:pt x="1" y="99"/>
                  <a:pt x="17" y="122"/>
                </a:cubicBezTo>
                <a:cubicBezTo>
                  <a:pt x="24" y="133"/>
                  <a:pt x="43" y="130"/>
                  <a:pt x="56" y="133"/>
                </a:cubicBezTo>
                <a:cubicBezTo>
                  <a:pt x="108" y="113"/>
                  <a:pt x="56" y="50"/>
                  <a:pt x="33" y="26"/>
                </a:cubicBezTo>
                <a:cubicBezTo>
                  <a:pt x="25" y="18"/>
                  <a:pt x="8" y="0"/>
                  <a:pt x="0" y="1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cc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5120" y="1414440"/>
            <a:ext cx="222120" cy="335160"/>
          </a:xfrm>
          <a:custGeom>
            <a:avLst/>
            <a:gdLst/>
            <a:ahLst/>
            <a:rect l="l" t="t" r="r" b="b"/>
            <a:pathLst>
              <a:path w="140" h="211">
                <a:moveTo>
                  <a:pt x="44" y="188"/>
                </a:moveTo>
                <a:cubicBezTo>
                  <a:pt x="0" y="124"/>
                  <a:pt x="75" y="83"/>
                  <a:pt x="105" y="37"/>
                </a:cubicBezTo>
                <a:cubicBezTo>
                  <a:pt x="107" y="26"/>
                  <a:pt x="101" y="9"/>
                  <a:pt x="111" y="4"/>
                </a:cubicBezTo>
                <a:cubicBezTo>
                  <a:pt x="119" y="0"/>
                  <a:pt x="127" y="17"/>
                  <a:pt x="128" y="26"/>
                </a:cubicBezTo>
                <a:cubicBezTo>
                  <a:pt x="132" y="76"/>
                  <a:pt x="140" y="132"/>
                  <a:pt x="117" y="177"/>
                </a:cubicBezTo>
                <a:cubicBezTo>
                  <a:pt x="100" y="211"/>
                  <a:pt x="76" y="196"/>
                  <a:pt x="44" y="188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2060640"/>
            <a:ext cx="155520" cy="449280"/>
          </a:xfrm>
          <a:custGeom>
            <a:avLst/>
            <a:gdLst/>
            <a:ahLst/>
            <a:rect l="l" t="t" r="r" b="b"/>
            <a:pathLst>
              <a:path w="98" h="283">
                <a:moveTo>
                  <a:pt x="38" y="263"/>
                </a:moveTo>
                <a:cubicBezTo>
                  <a:pt x="0" y="214"/>
                  <a:pt x="0" y="128"/>
                  <a:pt x="44" y="84"/>
                </a:cubicBezTo>
                <a:cubicBezTo>
                  <a:pt x="53" y="55"/>
                  <a:pt x="62" y="41"/>
                  <a:pt x="88" y="23"/>
                </a:cubicBezTo>
                <a:cubicBezTo>
                  <a:pt x="90" y="17"/>
                  <a:pt x="94" y="0"/>
                  <a:pt x="94" y="6"/>
                </a:cubicBezTo>
                <a:cubicBezTo>
                  <a:pt x="94" y="68"/>
                  <a:pt x="98" y="130"/>
                  <a:pt x="88" y="191"/>
                </a:cubicBezTo>
                <a:cubicBezTo>
                  <a:pt x="86" y="202"/>
                  <a:pt x="56" y="222"/>
                  <a:pt x="44" y="230"/>
                </a:cubicBezTo>
                <a:cubicBezTo>
                  <a:pt x="43" y="234"/>
                  <a:pt x="18" y="283"/>
                  <a:pt x="38" y="26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56080" y="2708280"/>
            <a:ext cx="182520" cy="291960"/>
          </a:xfrm>
          <a:custGeom>
            <a:avLst/>
            <a:gdLst/>
            <a:ahLst/>
            <a:rect l="l" t="t" r="r" b="b"/>
            <a:pathLst>
              <a:path w="115" h="184">
                <a:moveTo>
                  <a:pt x="34" y="184"/>
                </a:moveTo>
                <a:cubicBezTo>
                  <a:pt x="14" y="171"/>
                  <a:pt x="8" y="161"/>
                  <a:pt x="0" y="139"/>
                </a:cubicBezTo>
                <a:cubicBezTo>
                  <a:pt x="5" y="79"/>
                  <a:pt x="16" y="56"/>
                  <a:pt x="23" y="0"/>
                </a:cubicBezTo>
                <a:cubicBezTo>
                  <a:pt x="65" y="28"/>
                  <a:pt x="70" y="50"/>
                  <a:pt x="101" y="84"/>
                </a:cubicBezTo>
                <a:cubicBezTo>
                  <a:pt x="95" y="179"/>
                  <a:pt x="115" y="184"/>
                  <a:pt x="34" y="184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 rot="5838000">
            <a:off x="1875960" y="436320"/>
            <a:ext cx="333360" cy="12708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826920" y="3500280"/>
            <a:ext cx="292320" cy="1987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 rot="779400">
            <a:off x="179280" y="3500280"/>
            <a:ext cx="435240" cy="2098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02280" y="3378240"/>
            <a:ext cx="258480" cy="290520"/>
          </a:xfrm>
          <a:custGeom>
            <a:avLst/>
            <a:gdLst/>
            <a:ahLst/>
            <a:rect l="l" t="t" r="r" b="b"/>
            <a:pathLst>
              <a:path w="163" h="183">
                <a:moveTo>
                  <a:pt x="57" y="183"/>
                </a:moveTo>
                <a:cubicBezTo>
                  <a:pt x="0" y="145"/>
                  <a:pt x="39" y="101"/>
                  <a:pt x="70" y="61"/>
                </a:cubicBezTo>
                <a:cubicBezTo>
                  <a:pt x="80" y="48"/>
                  <a:pt x="88" y="34"/>
                  <a:pt x="97" y="20"/>
                </a:cubicBezTo>
                <a:cubicBezTo>
                  <a:pt x="102" y="13"/>
                  <a:pt x="111" y="0"/>
                  <a:pt x="111" y="0"/>
                </a:cubicBezTo>
                <a:cubicBezTo>
                  <a:pt x="158" y="12"/>
                  <a:pt x="147" y="30"/>
                  <a:pt x="158" y="68"/>
                </a:cubicBezTo>
                <a:cubicBezTo>
                  <a:pt x="156" y="90"/>
                  <a:pt x="163" y="136"/>
                  <a:pt x="138" y="156"/>
                </a:cubicBezTo>
                <a:cubicBezTo>
                  <a:pt x="127" y="165"/>
                  <a:pt x="97" y="169"/>
                  <a:pt x="97" y="169"/>
                </a:cubicBezTo>
              </a:path>
            </a:pathLst>
          </a:custGeom>
          <a:solidFill>
            <a:srgbClr val="86ab8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81320" y="2862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38520" y="1979640"/>
            <a:ext cx="235080" cy="353880"/>
          </a:xfrm>
          <a:custGeom>
            <a:avLst/>
            <a:gdLst/>
            <a:ahLst/>
            <a:rect l="l" t="t" r="r" b="b"/>
            <a:pathLst>
              <a:path w="148" h="223">
                <a:moveTo>
                  <a:pt x="55" y="217"/>
                </a:moveTo>
                <a:cubicBezTo>
                  <a:pt x="39" y="212"/>
                  <a:pt x="21" y="212"/>
                  <a:pt x="7" y="203"/>
                </a:cubicBezTo>
                <a:cubicBezTo>
                  <a:pt x="1" y="199"/>
                  <a:pt x="0" y="190"/>
                  <a:pt x="1" y="183"/>
                </a:cubicBezTo>
                <a:cubicBezTo>
                  <a:pt x="5" y="124"/>
                  <a:pt x="6" y="103"/>
                  <a:pt x="48" y="74"/>
                </a:cubicBezTo>
                <a:cubicBezTo>
                  <a:pt x="70" y="41"/>
                  <a:pt x="83" y="22"/>
                  <a:pt x="116" y="0"/>
                </a:cubicBezTo>
                <a:cubicBezTo>
                  <a:pt x="147" y="64"/>
                  <a:pt x="148" y="55"/>
                  <a:pt x="123" y="176"/>
                </a:cubicBezTo>
                <a:cubicBezTo>
                  <a:pt x="120" y="189"/>
                  <a:pt x="66" y="197"/>
                  <a:pt x="55" y="203"/>
                </a:cubicBezTo>
                <a:cubicBezTo>
                  <a:pt x="38" y="212"/>
                  <a:pt x="1" y="223"/>
                  <a:pt x="1" y="223"/>
                </a:cubicBezTo>
              </a:path>
            </a:pathLst>
          </a:custGeom>
          <a:solidFill>
            <a:srgbClr val="dcd6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3240" y="839880"/>
            <a:ext cx="128880" cy="419040"/>
          </a:xfrm>
          <a:custGeom>
            <a:avLst/>
            <a:gdLst/>
            <a:ahLst/>
            <a:rect l="l" t="t" r="r" b="b"/>
            <a:pathLst>
              <a:path w="81" h="264">
                <a:moveTo>
                  <a:pt x="60" y="264"/>
                </a:moveTo>
                <a:cubicBezTo>
                  <a:pt x="0" y="52"/>
                  <a:pt x="2" y="131"/>
                  <a:pt x="19" y="0"/>
                </a:cubicBezTo>
                <a:cubicBezTo>
                  <a:pt x="19" y="3"/>
                  <a:pt x="25" y="67"/>
                  <a:pt x="33" y="81"/>
                </a:cubicBezTo>
                <a:cubicBezTo>
                  <a:pt x="42" y="98"/>
                  <a:pt x="67" y="128"/>
                  <a:pt x="67" y="128"/>
                </a:cubicBezTo>
                <a:cubicBezTo>
                  <a:pt x="81" y="176"/>
                  <a:pt x="44" y="217"/>
                  <a:pt x="60" y="26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1492200"/>
            <a:ext cx="227160" cy="335160"/>
          </a:xfrm>
          <a:custGeom>
            <a:avLst/>
            <a:gdLst/>
            <a:ahLst/>
            <a:rect l="l" t="t" r="r" b="b"/>
            <a:pathLst>
              <a:path w="143" h="211">
                <a:moveTo>
                  <a:pt x="79" y="192"/>
                </a:moveTo>
                <a:cubicBezTo>
                  <a:pt x="0" y="166"/>
                  <a:pt x="87" y="68"/>
                  <a:pt x="119" y="36"/>
                </a:cubicBezTo>
                <a:cubicBezTo>
                  <a:pt x="121" y="27"/>
                  <a:pt x="126" y="0"/>
                  <a:pt x="126" y="9"/>
                </a:cubicBezTo>
                <a:cubicBezTo>
                  <a:pt x="126" y="68"/>
                  <a:pt x="143" y="131"/>
                  <a:pt x="119" y="185"/>
                </a:cubicBezTo>
                <a:cubicBezTo>
                  <a:pt x="108" y="211"/>
                  <a:pt x="2" y="152"/>
                  <a:pt x="79" y="192"/>
                </a:cubicBezTo>
                <a:close/>
              </a:path>
            </a:pathLst>
          </a:custGeom>
          <a:gradFill rotWithShape="0">
            <a:gsLst>
              <a:gs pos="0">
                <a:srgbClr val="86ab83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 rot="5400000">
            <a:off x="1618200" y="3429720"/>
            <a:ext cx="174960" cy="31608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 rot="5400000">
            <a:off x="1584720" y="440640"/>
            <a:ext cx="358920" cy="14436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 rot="5400000">
            <a:off x="6435000" y="270720"/>
            <a:ext cx="363600" cy="20016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 rot="5743800">
            <a:off x="6721200" y="271440"/>
            <a:ext cx="291960" cy="12708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8172360" y="3429000"/>
            <a:ext cx="433440" cy="16200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7236000" y="3357720"/>
            <a:ext cx="507960" cy="15552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 rot="5400000">
            <a:off x="6733080" y="3356640"/>
            <a:ext cx="249480" cy="28872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933720"/>
            <a:ext cx="21600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581360"/>
            <a:ext cx="21564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gradFill rotWithShape="0">
            <a:gsLst>
              <a:gs pos="0">
                <a:srgbClr val="8da25e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5300640"/>
            <a:ext cx="21600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4437000"/>
            <a:ext cx="21564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6c3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2373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084640"/>
            <a:ext cx="166680" cy="35100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gradFill rotWithShape="0">
            <a:gsLst>
              <a:gs pos="0">
                <a:srgbClr val="6c3600"/>
              </a:gs>
              <a:gs pos="100000">
                <a:srgbClr val="8da25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95008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587700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86ab8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331640" y="414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79736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lid objects are taken away to become fertilizer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95640" y="4653000"/>
            <a:ext cx="8636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L"/>
          <p:cNvSpPr/>
          <p:nvPr/>
        </p:nvSpPr>
        <p:spPr>
          <a:xfrm rot="5400000">
            <a:off x="3995640" y="285264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91440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189000"/>
            <a:ext cx="86364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2852640"/>
            <a:ext cx="3168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805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4797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765000"/>
            <a:ext cx="239760" cy="37656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148428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98100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530064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95008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797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98100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773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26028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206064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6227280" y="321300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727680" y="2928960"/>
            <a:ext cx="23940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7016400" y="3289320"/>
            <a:ext cx="23940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4c6c4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168760" y="307332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7735680" y="3289320"/>
            <a:ext cx="23940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4c6c4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7519320" y="300024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4c6c4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21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565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filter separates the chemicals from the dirty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566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5373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09308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44:13Z</dcterms:created>
  <dc:creator>Primary School</dc:creator>
  <dc:description/>
  <dc:language>en-US</dc:language>
  <cp:lastModifiedBy>Primary School</cp:lastModifiedBy>
  <dcterms:modified xsi:type="dcterms:W3CDTF">2009-06-23T23:43:29Z</dcterms:modified>
  <cp:revision>5</cp:revision>
  <dc:subject/>
  <dc:title>Slide 1</dc:title>
</cp:coreProperties>
</file>